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806D-64CF-4247-9E1B-1C833314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314E-4CA5-470F-9A36-1EDEBD2A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E1CA-D2B9-4B09-826F-5BEA53C8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A37C-C876-40CF-8EAC-666147D6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B6D5-7FEA-4239-A7B3-6F12D886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5B5D-6D13-4CD0-AEA4-FE6D5469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873E-0F1C-4EFB-ABB4-61B6E100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B986-E65E-4E0F-BF40-CA5FFAD8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4007-47BA-4E36-BECD-B5BE8179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5368-62CF-45C9-8FC8-18AC6B14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56B8-4BDF-445B-844D-66AA821E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6C2F-40A0-40D8-BFA8-19DE3FCC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A250-924D-46D0-A491-AD131FD9F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ckbar"/>
              </a:rPr>
              <a:t>2nd Grade GP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ckbar"/>
              </a:rPr>
              <a:t>Math Framework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ckbar"/>
              </a:rPr>
              <a:t>2nd Grade GP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ckbar"/>
              </a:rPr>
              <a:t>Scien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ckbar"/>
              </a:rPr>
              <a:t>Framework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ckbar"/>
              </a:rPr>
              <a:t>2nd Grade GP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ckbar"/>
              </a:rPr>
              <a:t>Social Studi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ckbar"/>
              </a:rPr>
              <a:t>Framework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ckbar"/>
              </a:rPr>
              <a:t>2nd Grade GP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ckbar"/>
              </a:rPr>
              <a:t>E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ckbar"/>
              </a:rPr>
              <a:t>Framework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17:33:37Z</dcterms:created>
  <dc:creator>Abby Owens</dc:creator>
  <dc:description/>
  <dc:language>en-US</dc:language>
  <cp:lastModifiedBy>Abby Owens</cp:lastModifiedBy>
  <dcterms:modified xsi:type="dcterms:W3CDTF">2010-05-28T17:36:49Z</dcterms:modified>
  <cp:revision>1</cp:revision>
  <dc:subject/>
  <dc:title>2nd Grade GPS </dc:title>
</cp:coreProperties>
</file>